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A39-BC9C-44D1-9921-4050B9A9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26D-85E6-4D86-9485-BB6B115A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21B03-A8DC-456F-8860-ACF7F7CC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F682-C8DC-4D67-9A6E-D2B17EC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216FC-B7FD-40FE-9CAE-15F28D57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0146B-E2E5-4B17-9A48-7E6F263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20D2D-E474-4DA3-B07E-0782615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E9D36-770C-4CC2-B765-A8715DF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1ED12-05AB-4314-ADB3-A6F03F5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AE12B-88E7-41C6-9E55-A85F0CB3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203ED-8A78-4C08-B4C7-4155EB73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1BF1D-EEF8-4661-A3DD-835BB05D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F82-5B14-47BB-8201-706983A3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5379B-42AD-459E-865C-F4CECD1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82723-67D8-4B0B-981D-819893AC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0A8D4-9797-4627-A725-FE247E0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EDD48-824C-497E-B08A-4A4CF76A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C1F0F-CC32-4356-8545-35676171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2355C-D3B7-4922-B497-D76C66B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7A6FF-B2C2-45CC-B87B-46450ED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AFF3A-8762-4412-B39E-195C34F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2C13C-C0C9-4408-85CB-145B9FC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9CA33-C7BE-4C34-B0D6-B49EA43E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2F6-31D5-40D7-B04B-E430EBEF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826DA-E6C5-43C3-95C2-863867E2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E49CD-0960-429D-9A4B-A8D9C45C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BAD0-8C1B-4780-AF88-426C111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60B67-8FDE-490F-8633-6FAC3183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06B87-D29E-41C5-B88C-EC1A4B9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D786-A05F-4454-AC31-9C221BE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AC7C8-9295-4684-A26B-04703B64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B96C9-B53B-4D19-9221-A80E20B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CA0B5-5CE6-48CA-BD62-B044ADF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BCBB4-BFE3-4095-9387-967774F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0123-572B-4D70-9400-BE2B8BC5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4ACD8-0959-42EB-8E6B-F944618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472F-6A05-460A-94BA-7B4B6149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BBA8-7891-4C64-A48B-FCD26CC4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98D1-86A0-4CFB-B143-20389C55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99C4A-CB5B-41CC-A12B-A6A93845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B234-0785-4F93-AADC-8A9B510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33E9E-D4D5-4AFA-B81F-A5C7860D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E9032-233F-40DD-8631-E168C2C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A8679-2F14-4019-9B65-35F1769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B951-F34A-4B7D-A3EC-7F2608C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70D-8F82-489D-AB44-843272F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9E0B7-4D36-4EC8-9F91-7032200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6DB12-5795-4F7D-A861-79D95AB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EE9B8-F755-4B37-9470-FF91E72E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1F9C5-9054-40AF-BEA1-48D93966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9BCA4-82F8-4492-B95E-63A558EC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CFC20-4673-4432-B91A-46F2222F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D61C8-B0E8-4D4A-B00D-6B67697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7889A-2B55-4782-B17B-C9D322AE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BD57A-4218-402A-B915-F137473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D936D-0BE3-487C-AB7B-3B88F95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C2F-45E1-4893-BCC8-9F96798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B1F81-A067-488E-BCC4-1D97EBE4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213CE-195D-4EF3-970F-ED320A3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74070-145B-4681-B9EF-0476AF3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16456-E40D-4234-91E8-D9AFF77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1267C-ACCF-4F80-A829-22C9E97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E5912-C310-4B0F-942F-409CF232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11A8A-28A1-42BE-8901-D1CE2998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90A6-D348-4497-9228-558ABC9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678-9DD5-4609-B079-5FDDFF97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EC71-59BD-438A-BABC-50EA325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4706-E34A-49EE-988E-F53D290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81C-6BE4-4547-A1A0-712CBE4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945A-20EE-4F0F-BC44-D2C6EAE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4B3-CE6D-4635-AFC8-93C5287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A247-C64A-449B-AE84-68D2C34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D078-B7A5-422D-874C-18E28315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26EE-9AA0-4CA5-BD42-4D52D95D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A3C5-9E9C-4194-AC32-3088EC96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F46B-9AC7-4C0C-9F13-6DBED3E8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90B3-0C34-486A-AA1E-B0E8983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3E04-17D6-49AD-80E3-858ADB63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2790-EBE6-46BE-B3F6-F33EB213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26E-4A70-461D-A502-EF97799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EDD1-DF74-45C2-AC4A-BB77440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B28F-2D79-42F0-8A18-B9BC95C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B233-C208-449C-A5CC-FC44D34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177F-2CC2-44DB-A774-B4735F9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1987-D1C3-42BD-97AE-BD8DBED3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BDB6-C741-40C3-8F63-BE913703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5B0F-3730-4C52-9511-031D53A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0199-1B91-4BC8-82DD-8CB6FE17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BBD4-DF17-4408-BACE-2A0BE54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380B-8B88-4648-80AF-193F869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09C-B486-4AAB-9D0C-D890619A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909E-B2C8-42D6-8FFE-9706D43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DA4F-2E24-4E8E-8D69-0A66802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8DC6-9F45-4220-BFBB-45B03F1C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F252-F83B-4E69-AF30-4CC1C61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648D-255B-4EB6-AE6C-50D21D50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E72D-E9D1-4B21-A21D-70560F3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508F-A553-4F9C-8E0B-B159BBD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C20A-E6D7-468E-AA34-DC2E9495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D614-4637-4A22-9834-BFC10EB9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63817-4B59-47F7-806F-415068A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C6E-F321-4FBB-B2B1-2D4A8616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0C57-F8AF-4127-AC84-C8A3846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81C6-CB78-42B2-95F5-F45D1284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7A27-B3EE-4B01-A29F-170C622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CA8D-B1CC-47A1-B9A3-ED15A4C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8E03-8C64-4F09-AEA5-75180642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B97B-43FC-4433-946E-FC730C0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3A66-4697-4169-BD2D-9F1B92DD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80D23-2ED0-4DE7-8704-6A8F74A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58B9-F23A-4EA7-AD27-2C58808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B4E3-ED06-4E53-A63A-551C3394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168-7810-45E0-BCA7-DFB97467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30C29-CFC2-4FDF-BDBD-8A83594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2849-14C2-4F3F-8D25-64BD7ABD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2337-72EC-4B1E-81C9-16DE5FF6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49ED-057A-44D2-9AA0-B61385A1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B09D-DE71-4A8E-97BA-2AD7E77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A19A-FE38-4D31-9EE9-70B16C9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A1B4-D410-4B36-9524-D48742CE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F454-5FE7-409A-8E2E-02374CC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0F63-AC22-4B98-ACA7-7385515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5A98-BA15-4655-9DE8-E82635C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460-237D-4A7B-9B09-E1CDCF8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1392-5945-400E-A7AF-BFB13636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44E2-6537-4A37-B1A6-DE35A6D9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2436-D063-48DF-A409-9997F562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658C3-A9AB-42DB-B076-499A9964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EA15-F8F3-402C-B357-5D67E34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2A84-AB2D-4452-B42F-FBE650D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A8D4-67BC-4351-A212-5678D54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D592-9EB6-4FAD-A57A-C06C5550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563B-1F65-4560-AE9E-D5B2E293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78FD-4931-4DD9-9D25-20E5AE1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D5B-2031-4A6E-96D4-9426F3D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0DEB-BC72-4761-8B9B-1601B7E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6C01-CD3C-406B-9FD5-A190731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93CE-90EA-4C79-9BF0-E0E2A22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A7E6-E407-472E-BF78-B4F033AD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DC95D-C57E-443A-8B56-02B499A5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3A6F0-E4B5-4483-835A-D609640E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E512-C1BA-4F51-9ECA-B5291952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910A-1161-4CFB-8041-67F7DB77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3C44C-097A-432E-A2AD-91CAFC6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29FF-32B1-4317-B5AB-0C82281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F76-4FA1-4E40-83F1-5F9F6E2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1A30E-C42E-49E6-A1AC-063579C2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7B8B-AE15-4272-B6F2-69B00EC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C5F37-F693-4B51-9D64-56935E6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F2EEC-0C9E-4FD0-B9D4-78DB309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666C-9D65-4932-9A88-8A298A8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2A87-7BE8-4100-B557-F4C30682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8530-8D31-4B3A-B5D3-5D4793DE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691B5-0DD2-4BF7-AC18-92FA7E71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170B-7E11-4F23-9A24-C2F93352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03DE-1D2A-412D-83C8-C3B874C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DBDA-60AA-49C3-BBDC-0A5C95D3388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CDCD-C029-4D26-982E-731A20635E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212-D305-441D-BD16-2A236DF8398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001B-0E10-4A2C-86B5-17CA4CDBA0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E87-2297-494F-AA0E-6297AEF8D09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A67F-EF8E-46C6-8DB5-FF271B8B6D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85BF-3724-4EA4-8F83-5A620732D1B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A3D-5224-44E2-8F0A-9B59CEA055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42D-2E52-4E29-BC38-AF1A10C9F6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481B-A9F9-4E7F-A5FB-6DF7454E9F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C12-7A33-4FDD-B43E-2E10B6F937D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182-ED18-4C40-A964-95EF2C4F1E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9115-6259-45ED-8605-E186DF226BF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9F3-6EC7-4EDB-9443-563E705CF2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08A-A001-4407-8CA6-A1B5133683B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CAA-0B1E-4FAB-871A-747346DEC3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702-0C7F-40AA-BD06-7321997D0FD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5715-47AE-4245-8A3D-AF74B7CB7A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8F69-A7B6-434B-8DD2-69FBCDB786F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9B4-E5B2-41A8-8AE1-2B6C68226E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2C6A-1A29-46F5-8A93-7E7DC6F78FF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52F-053D-442C-B94F-9FFB37C7DB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BA77-205E-4E12-869B-6B1079CAEF2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29B-E3BC-45AF-9562-A525CB94F1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11B-2F0A-42FC-B29C-3E7825484B7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726-28E1-4E58-886D-6EF23F032B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9"/>
          <p:cNvSpPr/>
          <p:nvPr/>
        </p:nvSpPr>
        <p:spPr>
          <a:xfrm>
            <a:off x="-6480" y="6053040"/>
            <a:ext cx="22482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Anonymo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CG 641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3933720" cy="3924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"/>
          <p:cNvSpPr/>
          <p:nvPr/>
        </p:nvSpPr>
        <p:spPr>
          <a:xfrm>
            <a:off x="727200" y="190512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ley, J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lenn, Cass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Zhang, 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pilepsy Foundation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sted flash vide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idence points to Anonym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onymous says it was Church of Scient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F95-F0FA-4B80-BADC-CB7D2CF2D453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B Gary Federal H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aron Barr announces infiltration of Anonym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onymous hack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bsi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-mail &amp; Phone Syst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it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eg Hoglund fires 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33A5-FC03-4555-8600-2635098E4021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peration Payback (#opson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orge Hotz and Alexander Egorenov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ch of freedom of spee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ok down PS Network and related s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al action against employees and fami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941-639B-4BF3-A5DA-2F355E7C7294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in attacks are SQL injections and distributed denial of service attac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rdening applications to prevent SQL injec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blic key authent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8" name="Picture 2" descr="http://www.unixwiz.net/images/sqlinjection.jpg"/>
          <p:cNvPicPr/>
          <p:nvPr/>
        </p:nvPicPr>
        <p:blipFill>
          <a:blip r:embed="rId1"/>
          <a:stretch/>
        </p:blipFill>
        <p:spPr>
          <a:xfrm>
            <a:off x="3276720" y="4952880"/>
            <a:ext cx="2619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uters and firewalls should be configured to stop invalid IP addresses and filter out protocols that are not need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rusion detection/prevention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ident pl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lti-cast Source Delivery Protocol or anyca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alty security compa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DOS attacks are hard to stop and prev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large enough attack will take down a website no matter how much security is in pl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3" name="Picture 2" descr="http://static.tumblr.com/9zoczkt/pColi1p7c/anonymous_by_zaysancho-d3aqimh.png"/>
          <p:cNvPicPr/>
          <p:nvPr/>
        </p:nvPicPr>
        <p:blipFill>
          <a:blip r:embed="rId1"/>
          <a:stretch/>
        </p:blipFill>
        <p:spPr>
          <a:xfrm>
            <a:off x="3352680" y="3886200"/>
            <a:ext cx="2379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rbanes-Oxl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tion 302 – Financial statements and internal controls surrounding them must be certifi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tion 404 - Effectiveness of its internal controls must be assessed and reported annually to the SE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CAOB - IT controls should only be part of the SOX 404 assessment to the extent that specific financial risks are addressed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rbanes-Oxl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urity is not patched or upd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levance of IT to financial state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8" name="Picture 4" descr="http://gbr.pepperdine.edu/wp-content/uploads/2012/02/SOX.jpg"/>
          <p:cNvPicPr/>
          <p:nvPr/>
        </p:nvPicPr>
        <p:blipFill>
          <a:blip r:embed="rId1"/>
          <a:stretch/>
        </p:blipFill>
        <p:spPr>
          <a:xfrm>
            <a:off x="2438280" y="32004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cep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ts early form, the concept had been adopted by a decentralized online community acting anonymously in a synchronized manner, usually in the direction of a loosely group-chosen goal, but the primary focus was to entertain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gan in 2008 as a decentralized network of individuals, and became focused on promoting access to information, free speech, and transparenc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embershi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you identify with or say you are Anonymous, you are Anonymous and no one has the authority to say you are not except yoursel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ctivities in 20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-ACTA activism in Europ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an. 21st, a series of DDoS attacks on Polish government websites took pla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rian Government Email H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b. 6th, Anonymous broke into the mail server of the Syrian Ministry of Presidential Affairs, accessing some 78 inboxes of Bashar al-Assad's staff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Sec Leak and CIA Att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b. 10th, Anonymous claimed responsibility for taking down the Central Intelligence Agency's website for more than 5 hou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IPAC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ch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onymous took down the American Israel Public Affairs Committee websit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tican website DDoS Attac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ch 1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onymous took down the Vatican’s webs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actions from the Soci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dia: Rep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ople: Com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w enforcement: Arr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abbo Hotel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frican-American, grey suits, afr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osed due to AID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imed Habbo was rac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5508-4863-401F-A5A6-0E952EEE3DF8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roject Chan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urch interviews Tom Cru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pyright violation clai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S attacks, prank calls, worldwide prot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9C0-08E3-481A-926F-AF2A020CE083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4:56:00Z</dcterms:created>
  <dc:creator>J.Hana</dc:creator>
  <dc:description/>
  <dc:language>en-US</dc:language>
  <cp:lastModifiedBy>Cassady</cp:lastModifiedBy>
  <cp:lastPrinted>1899-12-30T00:00:00Z</cp:lastPrinted>
  <dcterms:modified xsi:type="dcterms:W3CDTF">2012-04-12T21:05:38Z</dcterms:modified>
  <cp:revision>17</cp:revision>
  <dc:subject/>
  <dc:title>Anonymo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